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5D5B-6705-454F-802F-2C60FA64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AAA-EF2B-4A08-83E9-7AB91EEE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F13F-F8FD-474E-AA11-0C729A2C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552C-2EF5-4507-94B1-E19074E0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FCC7-BAA1-49D6-9D59-68468C7C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DA2F-C991-4174-9B5A-60550EFE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16F0-8DDC-4710-9BA5-1FF965CD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321B-6525-4C45-82ED-6D9FA612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315B-86F9-4180-BB41-4BF57F14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3CC6-89C1-4CA5-8A36-84F76BE3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7323-699D-45C3-8C4A-23223C1D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0A97-813A-4407-A1A0-AF6D4D49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7B48-F66C-426C-9C70-ADF58F85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C9C0-0D15-4584-ABEA-D4FCD4B5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E517-513D-4443-BF52-591EBC72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B941-8BC2-4DC3-92F0-4F7147A77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9F84F-0254-4D10-B0B5-EC2F5F96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ABBF-F3F6-4B4B-8A7F-D6373404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0641-98C0-4DEA-A13E-293A7A8E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E075-0E87-4B70-8C60-3F44016F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37E-4C37-4196-BADA-E449A07B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B130-3818-42A5-9F60-B972D996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96B2-A1DA-4170-81FC-919E298E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7462-1BE5-49B1-9541-D3AA8D5A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C357-ED2E-48BE-8108-E73006B70C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D1B9-A7C3-4447-B47D-373ADB23BF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0001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nit Review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s, Proteins, &amp;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981080" y="129492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DNA differ from R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se sugar vs. Ribose su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ymine vs. Ura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uble stranded vs.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we call a three base code of amino aci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cess by which DNA is transferred to mRNA is known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057040" y="609120"/>
            <a:ext cx="70866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4 main groups of protein stru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ar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rtiar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ternar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step in Protein Synthesis begins whe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molecule “unzip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dons that end protein synthesis are known 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ontains the genetic code for the synthesi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DNA code for isoleucine is T-A-G, then the anticodon on the tRNA 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-A-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roteins are made up of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amino acid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DNA stan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18960" y="456840"/>
            <a:ext cx="7924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4 of the 8 types of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Arial"/>
              </a:rPr>
              <a:t>Struc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Arial"/>
              </a:rPr>
              <a:t>Regul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Arial"/>
              </a:rPr>
              <a:t>Contrac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Arial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Arial"/>
              </a:rPr>
              <a:t>Prot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Arial"/>
              </a:rPr>
              <a:t>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1812"/>
                </a:solidFill>
                <a:latin typeface="Arial"/>
              </a:rPr>
              <a:t>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link amino acids together using this type of reac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hydratio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RNA stan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types of RNA we stud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are made in this part, the ________ of the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pH and temperature can ________ a protein (ie: eg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 acids are held together by ________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pt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 of amino acids a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codons 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uilding blocks of proteins are known 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 acids are made up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xyl group – CO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ino group – N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-group or Sid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don that starts protein synthesis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U-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6858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The following is a DNA sequence. Create the correct RNA sequence broken down into codons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CACCCATGTGCGT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14600" y="3352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48769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GUGGGUACACGCAU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495680"/>
            <a:ext cx="6172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onvert the codons to the correct Amino acid sequence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205740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G – Start 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GG - Tryptop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A - Va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C - Histi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CA - Ala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AA – Stop co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otides are composed of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bose sugar, phosphate, and a nitrogen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ere the co-discoverers of the structure of DNA, the “molecule of life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 &amp; Cr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given species DNA, the number of guanine molecules will always be equal to the number of these molec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an be referred to as a ladder. What forms the backbone and what are the run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and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nitrogen bases are considered puri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nine &amp; Gua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nitrogen bases are considered pyrimidi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sine &amp; Thy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20:56:25Z</dcterms:created>
  <dc:creator>Justin</dc:creator>
  <dc:description/>
  <dc:language>en-US</dc:language>
  <cp:lastModifiedBy>nbdoe</cp:lastModifiedBy>
  <dcterms:modified xsi:type="dcterms:W3CDTF">2008-04-16T12:00:01Z</dcterms:modified>
  <cp:revision>8</cp:revision>
  <dc:subject/>
  <dc:title>Unit Review </dc:title>
</cp:coreProperties>
</file>